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954600" y="-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5480" cy="345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748360"/>
            <a:ext cx="30243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954600" y="8748360"/>
            <a:ext cx="302400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615A-DFAA-420D-9940-A8747B0DBD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3755-88C9-4412-9CA5-58B732075E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. 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F947-FD20-4513-9AD5-E0B465DD2A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. 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8414-D826-4117-8AEB-D49123E653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. 1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1002-4F00-43FB-A747-D0CE1DFE0A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3F62-B4E0-477D-B7E6-907D0B77A3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54600" y="8748720"/>
            <a:ext cx="302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1A92-763C-43F2-935D-F0ACB45AA6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98040" y="4375080"/>
            <a:ext cx="55832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8E0-9CFB-446B-8AFA-1BD7197A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EC3-CE49-43CE-B029-F2C65C01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BA3-435A-4DAA-AB3B-6140DDE0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656-CFA7-4B19-8F4F-480B2E57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4865-8131-4CAC-B9D7-3D9B6E3B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4138-67D1-4DD6-9CFA-89D5AA5B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921-75A6-46CC-940D-B569CC5F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2431-C020-4B40-A1E6-2CA0547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268B-9891-42D2-BFD6-0162D5BD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C5B4-18CE-48F9-AEDA-1AF3E761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0109-6F0C-43D2-86A3-5C560065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794-628D-4434-8E7B-DE36A57E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8316-4669-4876-B100-ADA67220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3594-6216-4750-B27D-DE21325C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FC5B-671F-4782-B2E6-F064FDDD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0C95-8059-404E-ADB6-6A3AAB01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B555-E981-426F-B041-E0A61E3E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7897-0A7A-4BED-80A6-712AB302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D292F-8F98-4D50-BECF-D8AFEF70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390D-7D94-40C5-A815-D6CFBCC9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623D-94A5-45B1-8425-55C9872F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A1B5-3398-4FFC-BC63-B34CD0BA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2CC-5F89-40EB-B1E8-FF42083B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EB3D7-AB6E-4ACF-9E39-E6DED4B5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ED7CF-C697-47A4-907C-078846AB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5BA4-3015-448A-A4C9-2051F1E1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C7B3-44AD-42A6-9A58-45C8B438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89D02-46B1-4361-ADA1-8AC5F104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54B57-2C54-4FE4-BFC9-6F7BFA49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8C92-D22F-41F4-9B85-4623ACA9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B611D-CE0B-4DCE-8854-AE6B3712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F11C9-7451-4E55-BD6E-5503995E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9910-4164-499D-9EDD-ABFD7C6D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1DB-1EEC-4607-B562-31622A0C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21AD8-EE45-4A6A-AA3A-BC010828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7F9B3-3A00-4412-A99B-B9D1FA7D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D90A-A3B7-456D-8BFE-B4BC7CCB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DE99B-9D2A-4661-8B38-5EC5F7CB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FAB9C-3658-43F2-B757-DFB3FE66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345C3-68A2-4D5F-9C29-59845AA6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DAAE-0035-4E95-9D72-4F3265FF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19586-56FF-474C-8EA3-82E14708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79EEA-1DE0-4FA3-8C69-0F3D3EE5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7DB7C-249F-4700-A240-8215D086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4AB-F6AC-4A9F-B0F2-B1B79090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EC76-6BCC-4953-B165-F5E12F94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CD6D6-7747-46A5-B2C0-B8BBF1D6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7B1F-A1B9-4A4F-8217-CCE518BC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39634-1226-4A17-BBAC-5672F389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27193-9896-4D32-B2BA-19A50C3C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B9911-825C-4A3E-95F4-D5E95583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D1959-FBCF-4185-9347-49E72953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6BD66-B57C-4EE3-9594-0A92EB3F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2114D-9C5B-42FD-BA1F-D8C843AD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9C8C8-B8F4-4E9D-9866-52A61010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BAE-D69C-49FF-A1E3-0848B3D8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4EB5A-67CA-4036-B11C-9D1FEB55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490DE-77CB-4276-BA04-EC359C12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2B8B0-4934-4C80-A2D6-4C852902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47F4B-7C30-4FDF-85CB-626313DA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C9762-30A0-4074-B9A0-0E5419D0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EF345-3A6E-4FD2-AFBC-CABE3B5D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B722A-B9D9-4DB3-BFA3-2948DE85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7E86D-0744-44D2-9F3B-3DDB4473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C1825-122F-4E58-85EC-29EBAEE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5475-C320-45D2-9641-539440AE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BF2-35D7-4DDD-B4A0-CF905017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9ED24-BB71-49C7-B457-2820D21F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8BAE2-FEA9-45A1-818D-F0AAE9A1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8FB28-4376-4B8C-996C-95010309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D053C-9758-4F10-B9E7-58F6F1CE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F80F3-4B54-4D36-A813-1A5BB758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6528C-A0C2-420F-9227-F28B1D11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55F89-446B-4644-A606-051CBCCD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64A3B-0592-4862-9232-31C8E725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F1822-B429-434B-9DF1-B8838E33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470CB-4ED6-47CD-B45C-18D4EA29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635-DDE2-4BAF-9267-D5326B6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2571D-7231-4A61-A0CB-E116CEE8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E7E12-1959-428B-855C-D176375C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B2583-0B1F-490D-A561-838A0923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8C80E-2F1B-46CF-819F-DCDC674A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E79E8-06C3-4840-B7EA-7E1E1428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269-7D16-4446-BA2F-DD707515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24C1-8852-4666-8AC4-73B986021202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08CC-FFEA-49C5-A4B7-4DCB720BDAFB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63080" y="6180120"/>
            <a:ext cx="531360" cy="408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EA1D-826E-4912-BF2E-6983ED5C6558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2FE0-2D3E-4FBF-9ADE-B1DE404FC047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0313-0F0B-4A4C-92FE-30E46EE574F1}" type="slidenum">
              <a:rPr b="0" lang="en-US" sz="1600" spc="-1" strike="noStrike">
                <a:solidFill>
                  <a:srgbClr val="434342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44D2-AE1B-4D4C-819C-DF27EA877B4F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5943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FBF1-B0D6-467C-9DBA-3B5D6637689F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809880" y="594324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320320" y="6012720"/>
            <a:ext cx="808200" cy="337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Slide </a:t>
            </a:r>
            <a:fld id="{832975F8-59E4-4AEB-82B1-18C04A1B5125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19140000">
            <a:off x="245880" y="1626480"/>
            <a:ext cx="68040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Data Teams at stanton network schoo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in the context of THE seed teacher eval progra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resented by Billie Shea &amp; Jane Cook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dapted from materials developed by the Leadership and Learning Center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FE75CFB8-E401-4559-8E91-D25AA56C0A1B}" type="slidenum"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593280" y="1187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 CCT Teacher Evaluation Rubric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 Domains and Indicato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hat does it look like in practice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 Tools and Direction for Goal Setting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Student Learning Objectives (SLOs and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Focus Areas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380880" y="4334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anklin Gothic Medium"/>
                <a:ea typeface="ＭＳ Ｐゴシック"/>
              </a:rPr>
              <a:t>Purpose 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06079F22-286D-46CD-AD08-F462890E323A}" type="slidenum"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Assume positive inten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Take an inquiry sta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Respect equal opportunities for 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everyone to participate and be hear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-One person to speak at a time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80880" y="66996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anklin Gothic Medium"/>
                <a:ea typeface="ＭＳ Ｐゴシック"/>
              </a:rPr>
              <a:t>Conversation Norms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7BC85302-8F32-4FF2-9E91-EACFFD1935FE}" type="slidenum"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ata Team Acti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ata Teams adhere to continuous improvement cycles, examine patterns and trends, and establish specific timelines, roles, and responsibilities to facilitate analysis that results in action.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S. White,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Beyond the Numbers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, 2005, p. 18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tle 1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llustration of Core Requirements 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SEED Teacher Evaluation PILO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323" name="Straight Arrow Connector 9"/>
          <p:cNvCxnSpPr>
            <a:stCxn id="324" idx="2"/>
            <a:endCxn id="325" idx="0"/>
          </p:cNvCxnSpPr>
          <p:nvPr/>
        </p:nvCxnSpPr>
        <p:spPr>
          <a:xfrm>
            <a:off x="1176480" y="1820520"/>
            <a:ext cx="1124640" cy="826200"/>
          </a:xfrm>
          <a:prstGeom prst="straightConnector1">
            <a:avLst/>
          </a:prstGeom>
          <a:ln w="25560">
            <a:solidFill>
              <a:srgbClr val="797b7e"/>
            </a:solidFill>
            <a:miter/>
            <a:tailEnd len="med" type="arrow" w="med"/>
          </a:ln>
        </p:spPr>
      </p:cxnSp>
      <p:cxnSp>
        <p:nvCxnSpPr>
          <p:cNvPr id="326" name="Straight Arrow Connector 12"/>
          <p:cNvCxnSpPr>
            <a:stCxn id="327" idx="2"/>
            <a:endCxn id="325" idx="0"/>
          </p:cNvCxnSpPr>
          <p:nvPr/>
        </p:nvCxnSpPr>
        <p:spPr>
          <a:xfrm flipH="1">
            <a:off x="2300040" y="2314440"/>
            <a:ext cx="1094400" cy="332640"/>
          </a:xfrm>
          <a:prstGeom prst="straightConnector1">
            <a:avLst/>
          </a:prstGeom>
          <a:ln w="25560">
            <a:solidFill>
              <a:srgbClr val="797b7e"/>
            </a:solidFill>
            <a:miter/>
            <a:tailEnd len="med" type="arrow" w="med"/>
          </a:ln>
        </p:spPr>
      </p:cxnSp>
      <p:grpSp>
        <p:nvGrpSpPr>
          <p:cNvPr id="328" name="Group 18"/>
          <p:cNvGrpSpPr/>
          <p:nvPr/>
        </p:nvGrpSpPr>
        <p:grpSpPr>
          <a:xfrm>
            <a:off x="270000" y="990720"/>
            <a:ext cx="8645400" cy="3914640"/>
            <a:chOff x="270000" y="990720"/>
            <a:chExt cx="8645400" cy="3914640"/>
          </a:xfrm>
        </p:grpSpPr>
        <p:sp>
          <p:nvSpPr>
            <p:cNvPr id="324" name="TextBox 2"/>
            <p:cNvSpPr/>
            <p:nvPr/>
          </p:nvSpPr>
          <p:spPr>
            <a:xfrm>
              <a:off x="270000" y="990720"/>
              <a:ext cx="1811160" cy="82404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Student Growth and Development (45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7" name="TextBox 3"/>
            <p:cNvSpPr/>
            <p:nvPr/>
          </p:nvSpPr>
          <p:spPr>
            <a:xfrm>
              <a:off x="2449440" y="990720"/>
              <a:ext cx="1887480" cy="131076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Whole-school Student Learning Indicators or Student Feedback (5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9" name="TextBox 4"/>
            <p:cNvSpPr/>
            <p:nvPr/>
          </p:nvSpPr>
          <p:spPr>
            <a:xfrm>
              <a:off x="4794480" y="990720"/>
              <a:ext cx="1811160" cy="82404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Observations of Performance and  Practice (40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30" name="TextBox 5"/>
            <p:cNvSpPr/>
            <p:nvPr/>
          </p:nvSpPr>
          <p:spPr>
            <a:xfrm>
              <a:off x="7102440" y="990720"/>
              <a:ext cx="1812960" cy="58068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Peer or Parent Feedback (10%)</a:t>
              </a:r>
              <a:endParaRPr b="0" lang="en-US" sz="1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31" name="TextBox 6"/>
            <p:cNvSpPr/>
            <p:nvPr/>
          </p:nvSpPr>
          <p:spPr>
            <a:xfrm>
              <a:off x="6004080" y="2627280"/>
              <a:ext cx="1812960" cy="91692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Practice Rating (based on Cause Data) (50%)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25" name="TextBox 7"/>
            <p:cNvSpPr/>
            <p:nvPr/>
          </p:nvSpPr>
          <p:spPr>
            <a:xfrm>
              <a:off x="1393920" y="2646360"/>
              <a:ext cx="1812960" cy="91692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Outcome Rating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  <a:ea typeface="ＭＳ Ｐゴシック"/>
                </a:rPr>
                <a:t>(based on Effects Data) (50%)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32" name="TextBox 8"/>
            <p:cNvSpPr/>
            <p:nvPr/>
          </p:nvSpPr>
          <p:spPr>
            <a:xfrm>
              <a:off x="1393920" y="4262760"/>
              <a:ext cx="6423120" cy="642600"/>
            </a:xfrm>
            <a:prstGeom prst="rect">
              <a:avLst/>
            </a:prstGeom>
            <a:solidFill>
              <a:srgbClr val="dadad9"/>
            </a:solidFill>
            <a:ln w="9360">
              <a:solidFill>
                <a:srgbClr val="4343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</a:rPr>
                <a:t>All factors are combined to reach each teacher</a:t>
              </a:r>
              <a:r>
                <a:rPr b="0" lang="ja-JP" sz="1800" spc="-1" strike="noStrike">
                  <a:solidFill>
                    <a:srgbClr val="717074"/>
                  </a:solidFill>
                  <a:latin typeface="Calibri"/>
                </a:rPr>
                <a:t>’</a:t>
              </a:r>
              <a:r>
                <a:rPr b="0" lang="en-US" sz="1800" spc="-1" strike="noStrike">
                  <a:solidFill>
                    <a:srgbClr val="717074"/>
                  </a:solidFill>
                  <a:latin typeface="Calibri"/>
                </a:rPr>
                <a:t>s final annual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17074"/>
                  </a:solidFill>
                  <a:latin typeface="Calibri"/>
                </a:rPr>
                <a:t>rating (as described in the Connecticut guidelines).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cxnSp>
          <p:nvCxnSpPr>
            <p:cNvPr id="333" name="Straight Arrow Connector 10"/>
            <p:cNvCxnSpPr>
              <a:stCxn id="331" idx="2"/>
              <a:endCxn id="332" idx="0"/>
            </p:cNvCxnSpPr>
            <p:nvPr/>
          </p:nvCxnSpPr>
          <p:spPr>
            <a:xfrm flipH="1">
              <a:off x="4605120" y="3551040"/>
              <a:ext cx="2305440" cy="71172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34" name="Straight Arrow Connector 11"/>
            <p:cNvCxnSpPr/>
            <p:nvPr/>
          </p:nvCxnSpPr>
          <p:spPr>
            <a:xfrm flipH="1">
              <a:off x="6832440" y="1638360"/>
              <a:ext cx="984960" cy="100872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35" name="Straight Arrow Connector 13"/>
            <p:cNvCxnSpPr>
              <a:stCxn id="325" idx="2"/>
              <a:endCxn id="332" idx="0"/>
            </p:cNvCxnSpPr>
            <p:nvPr/>
          </p:nvCxnSpPr>
          <p:spPr>
            <a:xfrm>
              <a:off x="2300040" y="3570480"/>
              <a:ext cx="2305440" cy="69264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  <p:cxnSp>
          <p:nvCxnSpPr>
            <p:cNvPr id="336" name="Straight Arrow Connector 14"/>
            <p:cNvCxnSpPr>
              <a:stCxn id="329" idx="2"/>
            </p:cNvCxnSpPr>
            <p:nvPr/>
          </p:nvCxnSpPr>
          <p:spPr>
            <a:xfrm>
              <a:off x="5700960" y="1820520"/>
              <a:ext cx="1132560" cy="826200"/>
            </a:xfrm>
            <a:prstGeom prst="straightConnector1">
              <a:avLst/>
            </a:prstGeom>
            <a:ln w="25560">
              <a:solidFill>
                <a:srgbClr val="797b7e"/>
              </a:solidFill>
              <a:miter/>
              <a:tailEnd len="med" type="arrow" w="med"/>
            </a:ln>
          </p:spPr>
        </p:cxnSp>
      </p:grpSp>
      <p:sp>
        <p:nvSpPr>
          <p:cNvPr id="337" name="Date Placeholder 1"/>
          <p:cNvSpPr/>
          <p:nvPr/>
        </p:nvSpPr>
        <p:spPr>
          <a:xfrm>
            <a:off x="4114800" y="6400800"/>
            <a:ext cx="45324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Adapted from CSDE Teacher Evaluation Orientation, 8/10/12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0" y="6259680"/>
            <a:ext cx="1143000" cy="598320"/>
          </a:xfrm>
          <a:prstGeom prst="rect">
            <a:avLst/>
          </a:prstGeom>
          <a:ln w="0">
            <a:noFill/>
          </a:ln>
        </p:spPr>
      </p:pic>
      <p:sp>
        <p:nvSpPr>
          <p:cNvPr id="339" name="Slide Number Placeholder 5"/>
          <p:cNvSpPr/>
          <p:nvPr/>
        </p:nvSpPr>
        <p:spPr>
          <a:xfrm>
            <a:off x="8229600" y="6172200"/>
            <a:ext cx="674640" cy="5014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94E57F64-7314-400A-AABA-C20850ED650C}" type="slidenum">
              <a:rPr b="0" lang="en-US" sz="13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76320" y="1981080"/>
            <a:ext cx="131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tudent Learning Objectives (SLOs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TextBox 25"/>
          <p:cNvSpPr/>
          <p:nvPr/>
        </p:nvSpPr>
        <p:spPr>
          <a:xfrm>
            <a:off x="7572240" y="18288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bservations &amp; Survey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Straight Connector 27"/>
          <p:cNvSpPr/>
          <p:nvPr/>
        </p:nvSpPr>
        <p:spPr>
          <a:xfrm>
            <a:off x="4572000" y="990720"/>
            <a:ext cx="33480" cy="3124080"/>
          </a:xfrm>
          <a:prstGeom prst="line">
            <a:avLst/>
          </a:prstGeom>
          <a:ln w="9360">
            <a:solidFill>
              <a:srgbClr val="76787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D9963C37-86F8-4EDD-81D7-9CE8209D1EDA}" type="slidenum"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5214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ata Team Proces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763560"/>
            <a:ext cx="883944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Collect and chart data AKA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reasure Hu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Analyze strengths and obstacl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Establish SMART goals that are Specific, Measurable, Achievable, Relevant/Realistic, and Timely: Set, Review, Revis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Select instructional strategies:  What effective teaching strategies will adults use to help students achieve SMART goals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Determine results indicators:  What measures will we use?  How will we know that we have succeeded?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TextBox 1"/>
          <p:cNvSpPr/>
          <p:nvPr/>
        </p:nvSpPr>
        <p:spPr>
          <a:xfrm>
            <a:off x="-301680" y="5181480"/>
            <a:ext cx="970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Taking Stock --- Focus on the Right Solution –Take Collective Action – Monitor/Adjust –Maintain Momentum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365040"/>
            <a:ext cx="8077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The data Team process aligns with setting Student learning objectives IN SEED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822240" y="1100160"/>
          <a:ext cx="7521840" cy="3608280"/>
        </p:xfrm>
        <a:graphic>
          <a:graphicData uri="http://schemas.openxmlformats.org/drawingml/2006/table">
            <a:tbl>
              <a:tblPr/>
              <a:tblGrid>
                <a:gridCol w="3760920"/>
                <a:gridCol w="3760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he Data Team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eacher Goal Setting 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1:  Treasure H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seline Data/Background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2:  Identify strengths and weak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LO &amp; Rationale for 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3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blish SMART go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et IAG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4: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instructional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rategies/Actions to achieve S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2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ep 5:  Identify results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terim Assessments &amp; Data Collection/Assessment of Progress Toward Achieving the S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50" name="TextBox 4"/>
          <p:cNvSpPr/>
          <p:nvPr/>
        </p:nvSpPr>
        <p:spPr>
          <a:xfrm>
            <a:off x="-301680" y="5181480"/>
            <a:ext cx="970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anklin Gothic Book"/>
              </a:rPr>
              <a:t>Taking Stock --- Focus on the Right Solution –Take Collective Action – Monitor/Adjust –Maintain Momentum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3809880" y="5943600"/>
            <a:ext cx="4267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8153280" y="5943600"/>
            <a:ext cx="838440" cy="5335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2DC9-BE2B-4FE3-B99B-B0E6ECC8F96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 Leadership/Learning Matrix (L2 Matrix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914400" y="914400"/>
          <a:ext cx="7620120" cy="418464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2057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u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succes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ces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resul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success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osing 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failure 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w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igh understanding of antece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plication of mistakes unlik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Text Box 36"/>
          <p:cNvSpPr/>
          <p:nvPr/>
        </p:nvSpPr>
        <p:spPr>
          <a:xfrm>
            <a:off x="1523880" y="510552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Antecedents – Adult Actions/Intervention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ause Dat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Text Box 37"/>
          <p:cNvSpPr/>
          <p:nvPr/>
        </p:nvSpPr>
        <p:spPr>
          <a:xfrm rot="10800000">
            <a:off x="304560" y="151920"/>
            <a:ext cx="6069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Effects/Results Dat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</a:rPr>
              <a:t>Data Teams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8153280" y="6095880"/>
            <a:ext cx="750960" cy="5778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Slide </a:t>
            </a:r>
            <a:fld id="{0BC49787-C5A0-4768-A660-08A3208677BA}" type="slidenum">
              <a:rPr b="0" lang="en-US" sz="15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Next steps</a:t>
            </a:r>
            <a:endParaRPr b="0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22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Read the NPS Hybrid/SEED Plan, Review the District Improvement Plan, Network Goals and Pla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Collect and Analyze Data to Inform SLO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Draft SLOs and Focus Area Goal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Align SLOs and Focus Area Goals to the District Improvement Plan, Network Plan and 3 Core Network Goal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 Schedule Goal Setting Conference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TextBox 1"/>
          <p:cNvSpPr/>
          <p:nvPr/>
        </p:nvSpPr>
        <p:spPr>
          <a:xfrm>
            <a:off x="228600" y="50292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*** We will use the September 5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Franklin Gothic Book"/>
              </a:rPr>
              <a:t>th</a:t>
            </a:r>
            <a:r>
              <a:rPr b="1" i="1" lang="en-US" sz="2400" spc="-1" strike="noStrike">
                <a:solidFill>
                  <a:srgbClr val="000000"/>
                </a:solidFill>
                <a:latin typeface="Franklin Gothic Book"/>
              </a:rPr>
              <a:t> Staff Meeting as a working session to develop our goals together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4:20:56Z</dcterms:created>
  <dc:creator>Jane Cook</dc:creator>
  <dc:description/>
  <dc:language>en-US</dc:language>
  <cp:lastModifiedBy>Jane Cook</cp:lastModifiedBy>
  <cp:lastPrinted>2012-10-23T14:50:55Z</cp:lastPrinted>
  <dcterms:modified xsi:type="dcterms:W3CDTF">2013-08-26T01:41:00Z</dcterms:modified>
  <cp:revision>63</cp:revision>
  <dc:subject/>
  <dc:title>Data Teams  at Windham Middle School</dc:title>
</cp:coreProperties>
</file>